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5.png" ContentType="image/pn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26.png" ContentType="image/png"/>
  <Override PartName="/ppt/media/image17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7.jpeg" ContentType="image/jpeg"/>
  <Override PartName="/ppt/media/image2.jpeg" ContentType="image/jpeg"/>
  <Override PartName="/ppt/media/image2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7695-262A-4189-96A9-0C7A866C8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FA18-019D-4BC5-A0BB-D36BF742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3B6A-8711-4ACF-B116-6DCB649FC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7CBE-587A-411A-9503-AFFC1E2EA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65D2-B932-48FB-8D5C-226C96E2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65D8-20A0-4D97-8D76-29B14716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C954-3C88-425D-997A-4A8D4052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8F7F-A5C3-4E0E-99F6-C6B3193C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8823-4D6C-4568-9851-9C1311F8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AF22-DFC8-42E4-A8C3-95E6BB90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A7CF-B2DB-4CB3-8181-7A87651B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71EB-EEDF-4BED-B0AC-69A405FD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66A5-3443-4E7D-AAAE-6B12C4602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png"/><Relationship Id="rId11" Type="http://schemas.openxmlformats.org/officeDocument/2006/relationships/image" Target="../media/image27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24280" y="152280"/>
            <a:ext cx="2278080" cy="3048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86600" y="558720"/>
            <a:ext cx="1981080" cy="1922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52280" y="58680"/>
            <a:ext cx="2416320" cy="3218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819520" y="533520"/>
            <a:ext cx="1535040" cy="205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685800" y="3657600"/>
          <a:ext cx="3048120" cy="299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657600"/>
                    <a:ext cx="3048120" cy="29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5181480" y="3686040"/>
          <a:ext cx="3441960" cy="270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1480" y="3686040"/>
                    <a:ext cx="344196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3520" y="0"/>
          <a:ext cx="3657600" cy="32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0"/>
                    <a:ext cx="3657600" cy="32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876920" y="380880"/>
          <a:ext cx="3816360" cy="282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380880"/>
                    <a:ext cx="38163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0" y="3733920"/>
            <a:ext cx="4248000" cy="2771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5410080" y="3886200"/>
            <a:ext cx="304812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76320"/>
            <a:ext cx="2724120" cy="3333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130720" y="457200"/>
            <a:ext cx="3479760" cy="2679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85800" y="350532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410080" y="3505320"/>
            <a:ext cx="302904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2828880" cy="3200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19240" y="4114800"/>
            <a:ext cx="1914480" cy="2273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362320" y="4332240"/>
            <a:ext cx="1981080" cy="1839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629400" y="4114800"/>
            <a:ext cx="2514600" cy="2144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4724280" y="4038480"/>
            <a:ext cx="1839960" cy="2133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5105520" y="457200"/>
            <a:ext cx="363204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480" y="135000"/>
            <a:ext cx="3276720" cy="2913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724280" y="380880"/>
            <a:ext cx="4267440" cy="26942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57200" y="3657600"/>
            <a:ext cx="3757680" cy="2876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5105520" y="3581280"/>
            <a:ext cx="342900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43000" y="76320"/>
            <a:ext cx="6629400" cy="6629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76320"/>
            <a:ext cx="0" cy="655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1676520"/>
            <a:ext cx="57150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800600" y="4614840"/>
          <a:ext cx="1600200" cy="14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4614840"/>
                    <a:ext cx="1600200" cy="14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2666880" y="4440240"/>
          <a:ext cx="1613160" cy="15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4440240"/>
                    <a:ext cx="161316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5867280" y="2664000"/>
          <a:ext cx="1638360" cy="152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2664000"/>
                    <a:ext cx="163836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1447920" y="2646360"/>
          <a:ext cx="1676160" cy="1316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2646360"/>
                    <a:ext cx="167616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 flipV="1">
            <a:off x="1676520" y="1828440"/>
            <a:ext cx="5715000" cy="3352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876920" y="795240"/>
          <a:ext cx="1600200" cy="1185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76920" y="795240"/>
                    <a:ext cx="160020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" descr=""/>
          <p:cNvPicPr/>
          <p:nvPr/>
        </p:nvPicPr>
        <p:blipFill>
          <a:blip r:embed="rId11"/>
          <a:stretch/>
        </p:blipFill>
        <p:spPr>
          <a:xfrm>
            <a:off x="2590920" y="685800"/>
            <a:ext cx="17334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Dina Winterton</cp:lastModifiedBy>
  <dcterms:modified xsi:type="dcterms:W3CDTF">2010-02-17T16:46:17Z</dcterms:modified>
  <cp:revision>16</cp:revision>
  <dc:subject/>
  <dc:title>Slide 1</dc:title>
</cp:coreProperties>
</file>